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D34-D478-434E-ACC6-BA5621EB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AEA-9C7D-4231-86A7-CD506F69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D99-8AFC-4C85-BEBB-907952AD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76E-0C85-4FD3-B420-45F8476F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56E-0016-45A2-9D2B-B91A4F12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A47-E1B8-44C8-922D-9AE160CE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181-C5DE-4756-96FA-10E4CEAF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A82-1451-4AC6-BDDD-46F1C356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0E9-8985-4825-ABA9-BD34EDF7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052-0A7B-42E8-A94E-93AA919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ED8-EC21-4F87-9A0E-1BA8F9E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3F7-1DA9-449A-BAD6-DB1BF96F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3292-39D0-433F-AAC8-546DF6E86A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19BD-F333-4DCE-AA00-E03D9C88C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640" y="1376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ая карта проек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новой модели медицинской организации/, оказывающей первичную медико-санитарную помощь» в «ГБУЗ Кузнецкая межрайонная больница», поликлиника №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6120" y="2093760"/>
          <a:ext cx="8526600" cy="468504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30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6303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-10.02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-17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-25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2-03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3.-10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3 государственном бюджетном учреждении здравоохранения  Кузнецкая межрайонная больница рабочую группу по реализации приоритетного проекта «Создание новой модели медицинской организации, оказывающей первичную медико-санитарную   помощь» на территории поликлиники№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лидеров рабочей группы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сти анкетирование сотрудников, выбрать ключевые проблемы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овести анкетирование о здоровом образе жи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направление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ТП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ориентированную смету расходов на реализацию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Заголовок 1"/>
          <p:cNvSpPr/>
          <p:nvPr/>
        </p:nvSpPr>
        <p:spPr>
          <a:xfrm>
            <a:off x="5367240" y="76320"/>
            <a:ext cx="34290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Потапов А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04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врал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6880" y="544680"/>
          <a:ext cx="8431200" cy="3767040"/>
        </p:xfrm>
        <a:graphic>
          <a:graphicData uri="http://schemas.openxmlformats.org/drawingml/2006/table">
            <a:tbl>
              <a:tblPr/>
              <a:tblGrid>
                <a:gridCol w="411480"/>
                <a:gridCol w="2098440"/>
                <a:gridCol w="484200"/>
                <a:gridCol w="372960"/>
                <a:gridCol w="387360"/>
                <a:gridCol w="381240"/>
                <a:gridCol w="423720"/>
                <a:gridCol w="35712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2440"/>
                <a:gridCol w="351000"/>
                <a:gridCol w="350640"/>
              </a:tblGrid>
              <a:tr h="7887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3-22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-30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5-08.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членов рабочей группы  по выбранному направле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 обсуждение полученных результа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93560" y="5475240"/>
          <a:ext cx="7013880" cy="297000"/>
        </p:xfrm>
        <a:graphic>
          <a:graphicData uri="http://schemas.openxmlformats.org/drawingml/2006/table">
            <a:tbl>
              <a:tblPr/>
              <a:tblGrid>
                <a:gridCol w="7013880"/>
              </a:tblGrid>
              <a:tr h="2970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ководитель проекта                                          зав. поликлиникой   И.В. Арханге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26T11:59:56Z</cp:lastPrinted>
  <dcterms:modified xsi:type="dcterms:W3CDTF">2019-02-04T13:08:13Z</dcterms:modified>
  <cp:revision>350</cp:revision>
  <dc:subject/>
  <dc:title>Слайд 1</dc:title>
</cp:coreProperties>
</file>